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C75-EACE-4FB7-84C6-819D0739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ACD-3BDC-4FF3-BFFD-333343C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11B-D391-4FB1-9027-EF0A5FF1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0CF-3FC2-419F-BB27-FAAB1181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D5E-9E7A-4C7D-BF58-A9D084C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B50-02B5-4E28-89D6-EAEDE941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409-E36B-4DF9-AB32-4797D1D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90F-D09D-4595-84D2-66F11CA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3E5-BA97-449D-ADE9-8958717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7B2-0ABA-4762-861E-1ADFE086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276-8AAD-490E-B614-2BE4168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F68-300C-4C93-AC6E-B64A4A2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6C04-62EB-4BEB-BF2C-EB3101F05A1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historylearningsite.co.uk/" TargetMode="External"/><Relationship Id="rId3" Type="http://schemas.openxmlformats.org/officeDocument/2006/relationships/hyperlink" Target="http://www.spartacus.schoolnet.co.uk/" TargetMode="External"/><Relationship Id="rId4" Type="http://schemas.openxmlformats.org/officeDocument/2006/relationships/hyperlink" Target="http://www.britannica.com/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ibrary.usu.edu/Specol/digitalexhibits/masaryk/images/swasti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920" y="205740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0492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If you tell a lie, tell a big one.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666880" y="1295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Joseph Goebbel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8600" y="190512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295280" y="220968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orn on October 29,1897 in Rheydt, in the Rhinelan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Died, April 194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Under five feet ta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Had a lim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ent to Roman Catholic sch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ttended  Heidelberg Univers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Doctorate of philosophy in 192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uld not participate in the First World War, due to clubfoo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Later on, he told people his limp was due to an injury sustained in WWI, although it was really due to contracting polio as a ch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00400" y="1599840"/>
            <a:ext cx="5486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Goebbels joined the NSDAP in 192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itler gave him the task of building up support in Ber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was later appointed as Minister for Public Enlightenment and Propagan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as a very powerful orato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Picture 2" descr="http://www.hitler.org/posters/fuhrer1.jpg"/>
          <p:cNvPicPr/>
          <p:nvPr/>
        </p:nvPicPr>
        <p:blipFill>
          <a:blip r:embed="rId2"/>
          <a:stretch/>
        </p:blipFill>
        <p:spPr>
          <a:xfrm>
            <a:off x="0" y="2286000"/>
            <a:ext cx="316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May 10, 1933 Goebbels staged the infamous “book-burning”; pieces of Jewish, Marxist, and other “undesirable” work were piled and burned in a bonfi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Organized </a:t>
            </a:r>
            <a:r>
              <a:rPr b="0" i="1" lang="en-US" sz="2800" spc="-1" strike="noStrike">
                <a:solidFill>
                  <a:srgbClr val="ff0000"/>
                </a:solidFill>
                <a:latin typeface="Book Antiqua"/>
              </a:rPr>
              <a:t>Kristallnacht on November 9-10, 193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as a chief secret abettor for deporting Jews from Ber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In charge of morale boosts and propagan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2" descr="http://www.owlnet.rice.edu/~rar4619/Images/Goebbels.jpg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90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048120" y="3809880"/>
            <a:ext cx="380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ppointed Reich Commissioner for Total Mobilization after the German defeat at Stalingr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had his children poisoned with lethal inj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commanded an SS officer to shoot him and his wife, May 1, 19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33520" y="396252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Book Antiqua"/>
              </a:rPr>
              <a:t>"We shall go down in history as the greatest statesmen of all time, or as the greatest criminals."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historylearningsite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www.spartacus.schoolnet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www.britannica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Book Antiqua"/>
              </a:rPr>
              <a:t>www.jewishvirtuallibrary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2" descr="http://courses.cit.cornell.edu/his452/Alcohol/2107.jpg"/>
          <p:cNvPicPr/>
          <p:nvPr/>
        </p:nvPicPr>
        <p:blipFill>
          <a:blip r:embed="rId5"/>
          <a:stretch/>
        </p:blipFill>
        <p:spPr>
          <a:xfrm>
            <a:off x="2590920" y="3657600"/>
            <a:ext cx="233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4:48Z</dcterms:created>
  <dc:creator> </dc:creator>
  <dc:description/>
  <dc:language>en-US</dc:language>
  <cp:lastModifiedBy> </cp:lastModifiedBy>
  <dcterms:modified xsi:type="dcterms:W3CDTF">2009-11-25T17:07:30Z</dcterms:modified>
  <cp:revision>17</cp:revision>
  <dc:subject/>
  <dc:title>Slide 1</dc:title>
</cp:coreProperties>
</file>